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F9C3B-D1FC-4451-BBD4-B3BA6F88E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87B64-E8DE-4A69-A9C2-5DB6BCDC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073A9-1CB5-47C5-A3FC-EB261A9CE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FBD04-2F89-456E-B5D7-14F4A587B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1CD88-75D4-4D52-8925-40CE5A59F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4E8EC-501B-4EFB-97D0-AA2434375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8781F-8A85-4A7D-AC43-AB1BDC9B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EF90-19A0-40D3-ACB1-235A39839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67F10-E60F-4E70-9F06-0CB77111F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B591F-1E72-46C5-9273-2E0E14A6D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D42F-B437-4349-9101-8831D1B17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9E16B-8846-46BC-9A2B-48160F1D6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5D5E1-C10C-4821-9D88-D248EC4BD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AA008-E971-4D77-9A30-B637756F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AC56B-9571-4C55-B474-023485D2C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BA9D9-C8D2-41DA-8E0E-47673BCBA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D2744-9F3A-4AAE-BBA1-BD4767667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6162F7-17C5-4ADB-BBA8-91CB531DF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87445-C619-445F-BDB4-821A44E95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51E69-432B-4332-A1AB-11FD0DFE7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84A44-8CBA-4700-8504-D9946E30D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4B42E-3E0A-4BA2-8138-B072206D6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76B8-5DEF-45D2-9AD2-D7D3B8AB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4BCE3-8D43-40D5-B681-42103990A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93981-57EC-45B9-AE0A-698292931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06C38-DD30-4819-972F-3BC0D1521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61E19-CADF-42E1-B4F3-D30D455CD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F0A6A-82B1-4092-870F-EAD64331E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D48C9-7D46-4BA2-8534-2B1E633BBF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002A6-692B-4F19-BF9F-6A969181C0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324E0-898E-4549-83D0-4EECC266F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B5FA5-1F30-4EB5-AE0C-C3849E9E0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7DB39-F3A4-4DE3-9A95-3DBF76414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823F-2AF9-4976-A886-5E10B8DC4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BE09E-4C3E-4E34-80A0-62BD1FFA97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F3A41-7D24-4FE1-B7BA-0206F0A84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57F30-F7D1-4931-83F1-433EBA93D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E2346-4261-49E0-8491-367CDAA50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C09B1-486D-4F21-B0E4-4C14195C5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ADA52-BE6E-4136-A366-A1F275A6E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0150C-7ABD-48EA-929F-AC154BB7E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B48A1-EE81-43D3-97E4-DE00C0A8E1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E745E9-37D4-4D1D-BDF0-480705714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2A1398-2301-4911-9B2B-4E85B7F605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9330-99A3-48EE-8C02-9256D5D92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CE2C9-D348-4550-AFCF-AF6560FBC6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50490-6E24-45BE-917B-4172FBF16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049FB-629F-45EC-AE48-453CDB57F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ED4943-2FDD-434C-B2C5-AC9DE563E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D3DA9-04A9-4904-AA53-2956A8DFF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65C3F-4B32-4C42-B4F1-3670862CF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00B53-6683-4F15-ADB1-B06ED92B0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11324-407E-49C6-A9CB-3564D2498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FB6BB-E085-4156-A741-56A51D96A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599B13-6893-4A02-AD65-E9159A69F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FA7F-E8FA-44E5-A266-A2B1B0AD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9AF3C3-666C-41AC-8538-6E2ECC1FCB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363079-D780-4C15-AE26-316677344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15CEA-9366-4EA0-8585-942D72EE5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F0802-DFFA-406E-9D13-AC5C420605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FF110-E0BC-4682-832C-E4619773E5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8D6CD-45A7-42E1-9CE0-7DFCB7090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4F278-81D9-4240-BDB9-F93FC3913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30C3B-CFE4-4E91-940F-8F3775D40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7E543-F8B4-4651-BCA9-33E4B9FC0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F2F7A-4941-4D82-9271-135224914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787E-A343-43B0-AFD2-7BA443FAF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690A8D-6C70-41D0-866D-F82E47381B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F8E02F-749A-4261-8578-1779228029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2DAE21-1360-4B37-B877-BAD1758C1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4DBEE7-2F38-4C5B-BB06-8CE04AB801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9E558-1873-4308-A3C1-1DB99B86B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FFB1F-4C53-4F4B-8244-967F28A45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A6410-515B-4570-BCE5-4FEDA4A84A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55A5D-11E5-46DA-B1FB-199A9A9BBA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07F34-31E5-4AFF-B772-027BCB66A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82EA3-52D9-48B1-9195-80999E927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5CFB-4FD3-47A6-A1A8-F53FBEC4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1DFF6-761B-498D-B531-6A3AD800B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DD90F-2AAE-4299-86D5-8CB129423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8E7C0-A69B-4231-9D8C-9FA8E80F8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4F795-7A7A-4455-A353-3D96D554D4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1CD9DD-A74B-4B2F-94ED-45E47D8B2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3FAD-923E-404D-83FA-3D8D682AC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FF1F-8BFC-4660-86D7-D8F00135916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22D6-917E-45CB-9428-164BF06C05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31F6-BB54-462E-A2A8-3BDE2F5399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232C-BD07-47EC-824A-D6D197DC2A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E0DE-EB71-4C1C-B70B-834C07B8C5E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4DED-D21B-426B-B48D-6C3E4E53EA0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08A0-6059-4EEC-B595-F051E85271A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05" name="Picture 3" descr="Picture1a.jpg"/>
          <p:cNvPicPr/>
          <p:nvPr/>
        </p:nvPicPr>
        <p:blipFill>
          <a:blip r:embed="rId2"/>
          <a:stretch/>
        </p:blipFill>
        <p:spPr>
          <a:xfrm>
            <a:off x="3505320" y="1981080"/>
            <a:ext cx="19144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can a five-star hotel in one city be so different in its services, quality and facilities from a hotel in another part of the worl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e of the most important elements of the guest hotel experience is service standards, which do not generally form part of a hotel rating syste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nvironmentally friendly facilities will are now a core criterion of China's hotel rating system.</a:t>
            </a:r>
            <a:endParaRPr b="0" lang="en-US" sz="30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Green measures can be reflected in many dimensions, such as hotels' design and architecture, their building materials' selection and their customers' consumption habits, which hotels can influence.</a:t>
            </a:r>
            <a:endParaRPr b="0" lang="en-US" sz="30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hina currently has more than 14,000 hotels, including 572 five-star establishments and 2,149 four-star hotels.</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152280"/>
            <a:ext cx="824256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uld the industry adopt some sort of international rating standard that would supersede the ever-growing number of independent and consumer-generated Internet ranking sites?</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s that even possible?</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oes a sixth tier need to be created to add new, ultra-luxury properties to what have traditionally been five-category ranking system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285480"/>
            <a:ext cx="82296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8d8da"/>
              </a:solidFill>
              <a:latin typeface="Corbel"/>
            </a:endParaRPr>
          </a:p>
        </p:txBody>
      </p:sp>
      <p:sp>
        <p:nvSpPr>
          <p:cNvPr id="307" name=""/>
          <p:cNvSpPr txBox="1"/>
          <p:nvPr/>
        </p:nvSpPr>
        <p:spPr>
          <a:xfrm>
            <a:off x="0" y="1447920"/>
            <a:ext cx="9144000" cy="4525920"/>
          </a:xfrm>
          <a:prstGeom prst="rect">
            <a:avLst/>
          </a:prstGeom>
          <a:solidFill>
            <a:srgbClr val="ffc000"/>
          </a:solid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re is so far no international classification which has been adopted.</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countries use 1 to 5 star system</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USA hotels are rated from 1 to 5 diamonds</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hotels have claimed a six or seven-star rating for their operation. (Example: Burj Al Arab in Dubai 7 star)</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08" name="Picture 6" descr="http://www.fotosearch.com/bthumb/ICN/ICN261/F0022540.jpg"/>
          <p:cNvPicPr/>
          <p:nvPr/>
        </p:nvPicPr>
        <p:blipFill>
          <a:blip r:embed="rId1"/>
          <a:stretch/>
        </p:blipFill>
        <p:spPr>
          <a:xfrm>
            <a:off x="1981080" y="4267080"/>
            <a:ext cx="526284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solidFill>
            <a:srgbClr val="ffd25d"/>
          </a:solidFill>
          <a:ln w="76320">
            <a:solidFill>
              <a:srgbClr val="000000"/>
            </a:solidFill>
            <a:miter/>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cause there is no overall authority for assigning hotel ratings on an international basis, it is the customer who ultimately decides the quality of the hotel based upon the quality of guest experience.</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OLLOWING STAR RATINGS WERE ESTABLISHED BY THE EUROPEAN HOTELSTAR UN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165240"/>
            <a:ext cx="9156960" cy="1266840"/>
          </a:xfrm>
          <a:prstGeom prst="rect">
            <a:avLst/>
          </a:prstGeom>
          <a:ln w="0">
            <a:noFill/>
          </a:ln>
        </p:spPr>
      </p:pic>
      <p:sp>
        <p:nvSpPr>
          <p:cNvPr id="312" name=""/>
          <p:cNvSpPr txBox="1"/>
          <p:nvPr/>
        </p:nvSpPr>
        <p:spPr>
          <a:xfrm>
            <a:off x="457200" y="1528560"/>
            <a:ext cx="8686800" cy="52578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00 % of the rooms with shower/WC or bath tub/WC</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aily room clean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00 % of the rooms with color-TV together with remote control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ble and chai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ap or body wash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eption service - Facsimile at the recep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eakfast - Beverage offered</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0" y="1523520"/>
            <a:ext cx="9144000" cy="533412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ddition to the single star (*) hotel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eakfast buffe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light next to the be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th essence or shower gel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th towels and Linen shelve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ffer of sanitary products (e.g. toothbrush, toothpaste, shaving ki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cept Credit Cards</a:t>
            </a:r>
            <a:endParaRPr b="0" lang="en-US" sz="3200" spc="-1" strike="noStrike">
              <a:solidFill>
                <a:srgbClr val="000000"/>
              </a:solidFill>
              <a:latin typeface="Corbel"/>
            </a:endParaRPr>
          </a:p>
        </p:txBody>
      </p:sp>
      <p:sp>
        <p:nvSpPr>
          <p:cNvPr id="314"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15" name="Rectangle 5"/>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                                               </a:t>
            </a:r>
            <a:r>
              <a:rPr b="1" lang="en-US" sz="3200" spc="-1" strike="noStrike">
                <a:solidFill>
                  <a:srgbClr val="ff0000"/>
                </a:solidFill>
                <a:latin typeface="Corbel"/>
              </a:rPr>
              <a:t>Two Sta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0" y="1447920"/>
            <a:ext cx="9144000" cy="557208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n addition to the standard star (**) hotels: -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ception opened 14 hours, accessible by phone 24 hours from inside and outside,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ilingual staff (e.g. German/English)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uggage service</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everage offer in the room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elephone in the room - Internet access in the room or in the public area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ir-dryer, cleansing tissue - Dressing mirror, place to put the luggage/suitcase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wing kit, shoe polish utensils, laundry and ironing service </a:t>
            </a:r>
            <a:endParaRPr b="0" lang="en-US" sz="3000" spc="-1" strike="noStrike">
              <a:solidFill>
                <a:srgbClr val="000000"/>
              </a:solidFill>
              <a:latin typeface="Corbel"/>
            </a:endParaRPr>
          </a:p>
        </p:txBody>
      </p:sp>
      <p:pic>
        <p:nvPicPr>
          <p:cNvPr id="317" name="Title 1" descr=""/>
          <p:cNvPicPr/>
          <p:nvPr/>
        </p:nvPicPr>
        <p:blipFill>
          <a:blip r:embed="rId1"/>
          <a:stretch/>
        </p:blipFill>
        <p:spPr>
          <a:xfrm>
            <a:off x="-6480" y="165240"/>
            <a:ext cx="9156960" cy="1266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0" y="1285920"/>
            <a:ext cx="9144000" cy="557208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addition to the comfort star (***) hotels: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bby with seats and beverage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eakfast buffet or breakfast menu card via room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bar or 24 hours beverages via room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rm chair/sofa with side tabl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th robe and slippers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smetic products (e.g. shower cap, nail file, cotton swabs), vanity mirror, tray of a large scale in the bathroom)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Internet access and internet terminal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À la carte"-restaurant</a:t>
            </a:r>
            <a:endParaRPr b="0" lang="en-US" sz="3200" spc="-1" strike="noStrike">
              <a:solidFill>
                <a:srgbClr val="000000"/>
              </a:solidFill>
              <a:latin typeface="Corbel"/>
            </a:endParaRPr>
          </a:p>
        </p:txBody>
      </p:sp>
      <p:pic>
        <p:nvPicPr>
          <p:cNvPr id="319" name="Title 1" descr=""/>
          <p:cNvPicPr/>
          <p:nvPr/>
        </p:nvPicPr>
        <p:blipFill>
          <a:blip r:embed="rId1"/>
          <a:stretch/>
        </p:blipFill>
        <p:spPr>
          <a:xfrm>
            <a:off x="-6480" y="304920"/>
            <a:ext cx="9156960" cy="1274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0" y="1447920"/>
            <a:ext cx="9144000" cy="55720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ddition to the (****) hotel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eption opened 24 hou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ltilingual staff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orman-service or valet parking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cierg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acious reception hall with several seats and beverage service </a:t>
            </a:r>
            <a:endParaRPr b="0" lang="en-US" sz="3200" spc="-1" strike="noStrike">
              <a:solidFill>
                <a:srgbClr val="000000"/>
              </a:solidFill>
              <a:latin typeface="Corbel"/>
            </a:endParaRPr>
          </a:p>
        </p:txBody>
      </p:sp>
      <p:pic>
        <p:nvPicPr>
          <p:cNvPr id="321" name="Title 1" descr=""/>
          <p:cNvPicPr/>
          <p:nvPr/>
        </p:nvPicPr>
        <p:blipFill>
          <a:blip r:embed="rId1"/>
          <a:stretch/>
        </p:blipFill>
        <p:spPr>
          <a:xfrm>
            <a:off x="-6480" y="165240"/>
            <a:ext cx="9156960" cy="126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0" y="1523880"/>
            <a:ext cx="9144000" cy="55720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rsonalized greeting for each guest with fresh flowers or a present in the ro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nibar and food and beverage offer via room service during 24 hou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 in the ro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roning service (return within 1 h)</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e polish service</a:t>
            </a:r>
            <a:endParaRPr b="0" lang="en-US" sz="3200" spc="-1" strike="noStrike">
              <a:solidFill>
                <a:srgbClr val="000000"/>
              </a:solidFill>
              <a:latin typeface="Corbel"/>
            </a:endParaRPr>
          </a:p>
        </p:txBody>
      </p:sp>
      <p:sp>
        <p:nvSpPr>
          <p:cNvPr id="323" name="PlaceHolder 1"/>
          <p:cNvSpPr>
            <a:spLocks noGrp="1"/>
          </p:cNvSpPr>
          <p:nvPr>
            <p:ph type="title"/>
          </p:nvPr>
        </p:nvSpPr>
        <p:spPr>
          <a:xfrm>
            <a:off x="0" y="428400"/>
            <a:ext cx="91440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8d8da"/>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1:43:28Z</dcterms:created>
  <dc:creator>robert</dc:creator>
  <dc:description/>
  <dc:language>en-US</dc:language>
  <cp:lastModifiedBy>robert</cp:lastModifiedBy>
  <dcterms:modified xsi:type="dcterms:W3CDTF">2011-03-31T12:59:51Z</dcterms:modified>
  <cp:revision>8</cp:revision>
  <dc:subject/>
  <dc:title>Slide 1</dc:title>
</cp:coreProperties>
</file>